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6F6-9C6D-4977-BBE1-DF6BEF26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D43-337A-4460-B78B-9140BCF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BE6-4A94-4134-804C-46B911B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535-A9DF-43B0-A568-EFF700E9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EFB-4BFD-49F7-B56A-3B55E195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81A0-4799-436F-831A-9784C6E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6D46-6B12-4084-82D6-6D25042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9036-5674-4FED-885C-B1B3CD7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B114-349D-4440-A943-2B7AA8F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34F-70A3-4A57-B1CF-75EECEA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F7F-C3F6-461F-BCAC-AEEEDFF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609-C02E-4ED2-9353-74635E9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39BC-9827-41C0-88BD-FCEEC99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B1E-C94E-4746-9552-5FB6638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FA70-0586-4605-966A-D9010EE3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8901-DEE0-4852-AA60-192CDFA7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FED5-BDB8-469E-BA63-6C164CDA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24D-730E-451E-B386-44167FDF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625-9CBB-45B7-A756-1FB5B1B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2EB-DD7D-4579-BFCC-5B4BE156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39A-BFC0-4C6E-BF4F-3155A38F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DDC-5898-4EBF-A859-4CB5601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6D5-BD37-47F7-B0B6-2B31B32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5EB-DBB7-46D3-AA42-CC756CE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9D7-9BB4-40D7-808C-F0C9A65C4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FED7-3979-4DBB-9784-91B76660A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669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Tahoma"/>
              </a:rPr>
              <a:t>Создание оптимальных </a:t>
            </a:r>
            <a:br>
              <a:rPr sz="4800"/>
            </a:br>
            <a:r>
              <a:rPr b="0" lang="en-US" sz="4800" spc="-1" strike="noStrike">
                <a:solidFill>
                  <a:srgbClr val="cc66ff"/>
                </a:solidFill>
                <a:latin typeface="Tahoma"/>
              </a:rPr>
              <a:t>условий для жизни зверей в уголках природы доу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Выполнил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студент 636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Касева Евдок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67" t="0" r="0" b="-51"/>
          <a:stretch/>
        </p:blipFill>
        <p:spPr>
          <a:xfrm rot="1329000">
            <a:off x="6443280" y="549360"/>
            <a:ext cx="2300400" cy="1917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52800">
            <a:off x="388440" y="443520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7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Здоровье мыш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оровое питание, чистая кл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активный образ жизни необходимы для вашего зверька. Давайте  мышке что-нибудь твердое, чтобы грызть: косточки, или твердые собачьи « сухарики» необходимы для ее зубов. Ваша мышь должна быть упитанной ,но не толстой, с блестящими глазами и чистой шкуркой. Животное должно двигаться свободно. Если мышь забивается в угол или движется не уверенно, скорее всего, она боль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38088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ahoma"/>
              </a:rPr>
              <a:t>Обустроим дом для кры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летка должна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Хорошо проветриваемой и двухэтажной с лестницей по серед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Рекомендуемый размер – не менее 7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0*40*40</a:t>
            </a: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 сантиметров, а в самой клетке должно быть достаточно 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Шаг сетки не более 1.5 сантиметров, чтобы не дать маленьким крысам убеж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Уход за крысо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63086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2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561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Здоровье крыс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Чтобы крыса оставалась здоровой, ей нужно сбалансированное питание, чистая клетка и чистая подстил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Регулярный осмотр ,особенно уши, глаза, зуб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Осмотр на предмет опухо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Зу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ahoma"/>
              </a:rPr>
              <a:t>Хром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Tahoma"/>
              </a:rPr>
              <a:t>Клетка для кролик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835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Tahoma"/>
              </a:rPr>
              <a:t>Уход за кроликам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83739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Спасибо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 за внимание !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6553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Клетки для морских свинок и их оборудовани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Дерев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клетки разных разме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ол гладким, без щеле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защищен от сквозняков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лотно приставле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домик для сна и отдых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оставить кормушки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сухого и влажного кор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и поил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Устанавливать клетку пря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на полу не следует чтобы избеж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проникновения сырости и скопления грязи сни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10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04836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Уход за морскими свинкам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ежедневная тщательная убор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уборка корма, обновление               подстилок, замена слоя опил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обмывание кормушек и поил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ерез каждые две нед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генеральная чистка всех клеток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В два раза в год обрабатывание клетки вместе с предметами и их оборудованием хлорной известью или 5% - ным раствором креол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741600">
            <a:off x="6084360" y="1130040"/>
            <a:ext cx="2860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4751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Здоровье морской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свин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Чтобы морские свинки 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заболели ,надо соблюдать в уголке прир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санитарного режим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Чистота воздуха, определенная температу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</a:rPr>
              <a:t>Устранять сырость и сквозняки; Проводить ежедневную уборку клеток(замена подстилок, удаление остатков корм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1545600">
            <a:off x="6227280" y="404280"/>
            <a:ext cx="25052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518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ahoma"/>
              </a:rPr>
              <a:t>Хомячьи хором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олжен бы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большим, чистым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интересны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С множеством игрушек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колесо, лестница,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но засыпать стружко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для подстилки использ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сол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795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5759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Уход за хомячкам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Чистка и подготов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Подготовка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Еда и 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Игруш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04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511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ahoma"/>
              </a:rPr>
              <a:t>Здоровье хомяч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Как и любое другое  животное, хомячок нуждается в наблюдении за его здоровьем. Если хомяк неправильно питается или не содержится в чистоте то он заболеет. Причиной болезни так же может стать грязная клетка. Чтобы отслеживать хомячка, необходимо ежедневно брать его на руки. Если вам кажется , что с ним что-то не так, не колеблясь, обратитесь к ветерина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376360" cy="192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1455840" cy="179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521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489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Дом для вашей мыш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ррариу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полу лен или струж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о для сна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бор правильного ме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894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52578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ход за мышко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184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Каждый д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ть свежий корм, предварительно убрав остатки старог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воду в поил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Раз в два–три дн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подстилку;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ыть горячей водой все кормушки и поил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менить веточки для стачивания зубов на свеж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3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9:28:29Z</dcterms:created>
  <dc:creator>ASUS_F80CR</dc:creator>
  <dc:description/>
  <dc:language>en-US</dc:language>
  <cp:lastModifiedBy>студент</cp:lastModifiedBy>
  <dcterms:modified xsi:type="dcterms:W3CDTF">2010-05-22T10:58:45Z</dcterms:modified>
  <cp:revision>7</cp:revision>
  <dc:subject/>
  <dc:title>Создание оптимальных условий для жизни зверей в уголках природы доу</dc:title>
</cp:coreProperties>
</file>